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27F4-0966-4D4C-880E-1F05582E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78F0-2E88-40BA-A617-B05C808B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BFC-6E35-4990-8EA3-CD0A674C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4CFA-D126-4DEE-8ABF-491A13FD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B384-505D-481A-963C-12FD3D0A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D80D-561C-485B-A14B-D139224D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CBD4-E468-48D5-B434-48D4E09C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621D-B265-4966-A819-950F344C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F870-C446-4B95-9D67-F6D22708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4EDA-EB6A-4A9D-B42D-C2F0BD7D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FDEF-6B43-455E-953B-99D82A5B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7D3F-4D19-4015-92C8-06EF90E1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7B73-ACEA-4866-98F6-D4DE4437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ABDD-F58D-4EF7-8E54-8D467B98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48CE-41E6-4419-9E76-6DDAEA63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3A5C-C067-468B-83DB-F8BA0413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71A5-5D3D-461C-B952-D5B33E79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7396-6CFE-4DE5-9F34-638060A7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21E2-E592-4DA8-8D0B-85AC65CA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7DD-34EE-4018-9F00-0CC65B3F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B8CC-6B4C-4953-914D-FECD8F0C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B7F9-FDDB-4536-A324-734A0961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C0A7-EA78-4691-99EA-54F4B5D9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C309-ACA6-4274-8A99-7618E4E6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17B9-0540-4E0C-AFC3-15C173A9C6EA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2980-CC68-42B5-BEA7-8DE962501705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ending Laptops to Depot 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310824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2204"/>
                </a:solidFill>
                <a:latin typeface="Arial"/>
              </a:rPr>
              <a:t>iSqua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2204"/>
                </a:solidFill>
                <a:latin typeface="Arial"/>
              </a:rPr>
              <a:t>Customer Service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were some good examples of efficient troubleshooting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are some ways that the iSquader can remind themselves of the time restriction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does the iSquader know if it’s ok to send the equipment to the depot?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swe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heet to record observations – guiding questions time each other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ervic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escribe issue and steps taken to resolv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epot or continue working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Define Depo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12164"/>
                </a:solidFill>
                <a:uFillTx/>
                <a:latin typeface="Arial"/>
              </a:rPr>
              <a:t>Depot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: Central location, within the school, for all equipment and technological issues to be addressed by a depot manag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the best way to approach a technological issue that arises during instruction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I address these issues with minimal disruption by sending them to the depot within reasonable time?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Be as efficient as possible when resolving a computer erro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Minimize disruption to the class and yourself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nd laptop to the depo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long should I spend working on a laptop during clas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o not allow yourself to fall behind with your student responsibiliti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uthor’s recommendation is 5 minutes before forwarding to the depo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iscuss scenarios of common day-to-day issu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etermine which would go to the depot and which can be resolved within the time restriction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ategorize your scenarios by issues that will be resolved by depot and iSquade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What are some issues that you’ve resolved during class?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You will have 20-30 minutes to demonstrate to each other the various scenarios that represent  the technological disruptions occurring in your classroom on a usual basis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Team members should alternate being the iSquader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Be mindful of the time being expended on each request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1 –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Choose the iSquader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2 –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User will make a request to resolve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a specific issu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3 –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iSquader will troubleshoot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4 –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Within 5 minutes equipment is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handed back to the user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5 –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User continues working or heads to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the depo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6 –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Record your observation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7 –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witch roles (repeat as time allows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7-02-26T00:45:52Z</dcterms:modified>
  <cp:revision>5</cp:revision>
  <dc:subject/>
  <dc:title>Workshop Title</dc:title>
</cp:coreProperties>
</file>